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AE7-A86B-4A5C-9096-5C93AD13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9D9-F9C3-44FA-8827-0ACFB0E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956-BCEF-4CDB-894F-8A56A368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5C4-F077-4170-9E0A-7CD27C50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E38-62B1-45FA-BE0C-1BBC3E7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3DE-12A2-4A1A-91BE-185A109D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B60-C17E-4F63-9164-3D404167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4E6-20B0-4F77-9A5C-3F094AA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8C4-C64C-49E2-B182-BA9244C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31B-46F8-40A2-9900-48D9552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188-3B1D-434E-BA52-E2E8D80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399-289A-4259-B38F-EB56F78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B312-6A18-4514-ACDE-03BAC60F9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d2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Lauge Gregers Hedeg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2016360" cy="191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133720"/>
            <a:ext cx="7885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Hello my name is Lau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I am 14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I like to work with comp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I want to b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 or something else with comp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y spare time I’m going to athletic, and I’m running very m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09:26Z</dcterms:created>
  <dc:creator>02a9</dc:creator>
  <dc:description/>
  <dc:language>en-US</dc:language>
  <cp:lastModifiedBy>02a9</cp:lastModifiedBy>
  <dcterms:modified xsi:type="dcterms:W3CDTF">2010-02-09T09:29:52Z</dcterms:modified>
  <cp:revision>2</cp:revision>
  <dc:subject/>
  <dc:title>Lauge Gregers Hedegaard</dc:title>
</cp:coreProperties>
</file>